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273-967D-4BF4-9F75-669AA602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F75-5165-484F-AD59-87325700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6B3-8FC3-4B76-882C-090B67A9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AD0-CC83-4A9E-BB38-42308CA8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04F-13EA-4775-A33E-DA186C7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F752-60F0-456C-A319-1A218365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C8F-B030-4CDE-8286-A1E61B2C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E06-7F88-4531-9FE2-89CA2BE5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169F-DC9F-46E5-9B07-B63F7C69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AE3-5509-451E-8BFF-5EB73215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076-EBC1-446B-B6E1-510E061C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791-3025-4071-B869-443D688C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84F8-CA98-4089-B1E6-4E8392EA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dreamstime.com/soccer-ball-on-fire-thumb1275250.jpg&amp;imgrefurl=http://www.dreamstime.com/soccerballonfire-image1275250&amp;h=350&amp;w=247&amp;sz=15&amp;hl=en&amp;start=2&amp;tbnid=f9jjjjdG-MVS1M:&amp;tbnh=120&amp;tbnw=85&amp;prev=/images%3Fq%3Dsoccer%2Bball%2Bon%2Bfire%26gbv%3D2%26ndsp%3D20%26hl%3Den%26sa%3D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innovativefundraising.net/assets/images/FlamingSoccerBall.gif&amp;imgrefurl=http://www.innovativefundraising.net/html/fire_depts.html&amp;h=267&amp;w=176&amp;sz=25&amp;hl=en&amp;start=14&amp;tbnid=81vjrpD4crPzvM:&amp;tbnh=113&amp;tbnw=74&amp;prev=/images%3Fq%3Dsoccer%2Bball%2Bon%2Bfire%26gbv%3D2%26ndsp%3D20%26hl%3Den%26sa%3DN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dreamstime.com/soccer-ball-flames-thumb823798.jpg&amp;imgrefurl=http://www.dreamstime.com/soccer-ball-flames-image823798&amp;h=240&amp;w=300&amp;sz=35&amp;hl=en&amp;start=3&amp;tbnid=WIA2tKjAKgft8M:&amp;tbnh=93&amp;tbnw=116&amp;prev=/images%3Fq%3Dsoccer%2Bball%2Bon%2Bfire%26gbv%3D2%26ndsp%3D20%26hl%3Den%26sa%3DN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com/imgres?imgurl=http://69.90.174.248/photos/display_pic_with_logo/3786/3786,1136920181,1.jpg&amp;imgrefurl=http://www.shutterstock.com/pic-873075-a-burning-soccer-ball.html&amp;h=470&amp;w=231&amp;sz=35&amp;hl=en&amp;start=13&amp;tbnid=mQJgwOny5PX1xM:&amp;tbnh=129&amp;tbnw=63&amp;prev=/images%3Fq%3Dsoccer%2Bball%2Bon%2Bfire%26gbv%3D2%26ndsp%3D20%26hl%3Den%26sa%3DN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hyperlink" Target="http://images.google.com/imgres?imgurl=http://www.funnypart.com/pictures/FunnyPart-com-best_friends.jpg&amp;imgrefurl=http://www.abc.net.au/triplej/dools/blog/s2004273.htm&amp;h=464&amp;w=500&amp;sz=45&amp;hl=en&amp;start=17&amp;tbnid=jDc7edCGalkMkM:&amp;tbnh=121&amp;tbnw=130&amp;prev=/images%3Fq%3Dfunny%2Bfriends%26gbv%3D2%26hl%3Den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hyperlink" Target="http://images.google.com/imgres?imgurl=http://yummybrainfood.files.wordpress.com/2008/04/goal.jpg&amp;imgrefurl=http://yummybrainfood.wordpress.com/2008/04/20/scoring-goals-in-the-game-of-life/&amp;h=600&amp;w=800&amp;sz=440&amp;hl=en&amp;start=1&amp;tbnid=rDgqSQZgvwU-FM:&amp;tbnh=107&amp;tbnw=143&amp;prev=/images%3Fq%3Dgoal%26gbv%3D2%26hl%3Den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Nick Heidtk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0720" y="4495680"/>
            <a:ext cx="167328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154160" cy="1762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5268960"/>
            <a:ext cx="1981080" cy="158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96080" y="0"/>
            <a:ext cx="1447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532320"/>
            <a:ext cx="4572000" cy="332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7196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1066680"/>
            <a:ext cx="2209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90920" y="1219320"/>
            <a:ext cx="39052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3867120" cy="389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886200" y="2854440"/>
            <a:ext cx="5257800" cy="4003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1143000"/>
            <a:ext cx="2438280" cy="182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0" y="1219320"/>
            <a:ext cx="22860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7:32Z</dcterms:created>
  <dc:creator>CGB</dc:creator>
  <dc:description/>
  <dc:language>en-US</dc:language>
  <cp:lastModifiedBy>CGB</cp:lastModifiedBy>
  <dcterms:modified xsi:type="dcterms:W3CDTF">2008-06-03T14:21:06Z</dcterms:modified>
  <cp:revision>4</cp:revision>
  <dc:subject/>
  <dc:title>Me </dc:title>
</cp:coreProperties>
</file>